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051-39C4-47B8-B2ED-BAB47663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C17-BD05-439B-AFCC-1ACC1B4D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57D-D53D-45E7-AEAF-A306624D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D9E-E53B-441D-B209-DE770E6A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E6C-B0E5-444F-8A62-14374509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892-7306-4E68-B13A-7EE978BF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8A0-B1BE-4826-A791-F513895A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7D8-0839-41E4-BFAA-3D595311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E2F-A27B-44D2-B730-E9BECA2D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2EA-2856-43F5-9DC7-7B79226E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03C-7699-4EA7-AAA8-E21B0D1F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914-4A0C-4D30-8BC2-343FC1D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1F93-33BC-42CD-9452-91BA906F7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399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09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7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26440" y="2751120"/>
            <a:ext cx="69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5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7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2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5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5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79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3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88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1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5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0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95320" y="4932360"/>
            <a:ext cx="51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LBRZYMI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09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3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0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3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27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39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17960" y="34336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2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87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2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1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0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4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3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4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2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0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0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18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47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48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6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4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5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3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aczej mówiąc 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napięcia lub prądy, których zmiany mogą następow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133720" y="2279520"/>
          <a:ext cx="411480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79520"/>
                    <a:ext cx="41148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12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14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924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931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935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954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958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964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971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975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996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999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12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024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039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047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090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098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104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107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112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118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179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182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195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44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60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264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3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18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21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34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353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357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380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387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391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427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431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439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442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447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451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457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4960" y="263196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ądu zmien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4382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adu stał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0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483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511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557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558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562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572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573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6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const. jeśli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33720" y="1066680"/>
            <a:ext cx="4800600" cy="3771360"/>
            <a:chOff x="2133720" y="1066680"/>
            <a:chExt cx="4800600" cy="3771360"/>
          </a:xfrm>
        </p:grpSpPr>
        <p:sp>
          <p:nvSpPr>
            <p:cNvPr id="95" name=""/>
            <p:cNvSpPr/>
            <p:nvPr/>
          </p:nvSpPr>
          <p:spPr>
            <a:xfrm>
              <a:off x="6567480" y="4378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3446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91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811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85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2578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860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3619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4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4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5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0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5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6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1760" y="2384280"/>
            <a:ext cx="58867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3-12-01T06:29:52Z</dcterms:modified>
  <cp:revision>69</cp:revision>
  <dc:subject/>
  <dc:title>Wzmacniacze prądu stałego</dc:title>
</cp:coreProperties>
</file>